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ED9-C50F-4777-B33B-FDBEFC60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13A-8464-4A2C-BF50-C3F79894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ECC-9308-44FB-92FB-54B3D9A4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E0F-6C21-4D4C-A1AC-B42467CC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DF4F-CCEE-4101-9BB5-BEFE0F93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CEDF-D374-45E5-9C74-5F0A7B5F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AFF0-5F6D-401B-953A-D236C898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B0EA-10FE-455D-B212-54423990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8B76-357D-4D9B-B7E4-48A1BEFC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D6DF-4B69-4B25-8BC4-48D9FC1B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DE5E-9F3A-4361-A976-26E538A3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3B6-9F75-4302-A3CB-8D2F5532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EDF7-DB03-4BEA-857D-AB9AF1E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178D-A3D1-4963-8A4A-00FA39A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C463-C72E-419E-BB1A-A12E6A30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F1CC-DD1E-4EBD-8FA0-B772A074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7347-2B03-4DF5-AB57-CA1DE961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34CB-D571-4EB6-98CE-557FE392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48E5-51A4-49FF-9001-59D36492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AB06-FC02-4260-9E97-D330E215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0509-B3F9-46FF-863D-D011DD72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6CBF-288B-485D-A326-48EB3429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C85-6CFF-42BE-BBC9-15D1307D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B684-D2F1-41DE-A283-21C79763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0D188-CEAA-4868-8F16-ED302922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3889-D638-4ED6-BBD3-F6BBCCE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1858-D543-4A17-915F-21ECF87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27A6-A9FC-45EB-A336-E31A1321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E6D1-6F5B-4465-9875-72F6CFAA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B592-3098-418D-B6DC-86AACACD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C449F-69E5-4BE8-803E-AA663446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95674-8893-4743-A47B-472BE2B9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EFE7-1FFB-40DB-A121-862135EF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C95-7DA0-49CB-AA9C-722AEEBC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3C99-B743-4F95-BDFC-63462868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F6BE5-46EE-4562-8A94-BB75E8B8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A739-B569-4903-8803-2FA0798F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98DB-79A8-4777-B47A-2C868246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C4F58-89AC-486B-B007-58705F12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BD8E-2A27-4F97-8269-3F92080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EFF8-8A39-4737-841A-BC1C0BF2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1CEF-78F1-433B-82F4-3B072689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285A-48FB-47F0-9C08-5B49CC7F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E09-F7C2-48C5-ABEE-B6BBB63C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210-B18D-461E-BF8B-2CEB783A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85D-FE1C-433B-A351-7AFEC96F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350-1122-44A2-84D3-FA93601B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B5A-A205-4468-95AC-454439D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D373-A900-4A06-9ED6-DD9D72394A1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D8DF-7D2B-49B0-A474-0EE3AD19018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3EB8-94CA-47C5-BA3C-EBE8A864F9C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EE46-BED6-4A5C-B119-46B5AB4329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Alyssa Herb Wozni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mil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 Seuss’s  real name is Theodor  Seuss Geisel  and he was adopted by  Theodore  Robert  and  Henrietta Seuss.  Theodore was born in Springfield, Massachusetts  Theodore and his father was  Germ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5" descr="http://www.springfieldmasspersonalinjury.com/wp-content/themes/thesis_17/custom/rotator/springfield.jpg"/>
          <p:cNvPicPr/>
          <p:nvPr/>
        </p:nvPicPr>
        <p:blipFill>
          <a:blip r:embed="rId1"/>
          <a:stretch/>
        </p:blipFill>
        <p:spPr>
          <a:xfrm>
            <a:off x="3808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lleg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odore  went to Dartmouth  College .Theodore wrote for a magazine  called  Dartmouth Jack-o-Lantern  editor-in-chief . His  wife was  Helen palmer   he married he in 192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5" descr="http://thehaitihikingproject.org/wp-content/uploads/2011/02/Dartmouth-College.jpg"/>
          <p:cNvPicPr/>
          <p:nvPr/>
        </p:nvPicPr>
        <p:blipFill>
          <a:blip r:embed="rId1"/>
          <a:stretch/>
        </p:blipFill>
        <p:spPr>
          <a:xfrm>
            <a:off x="152280" y="3657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ult Lif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934640"/>
            <a:ext cx="5334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ring World War II, Dr. Seuss wrote Design for Death.  He worked for an animation department for the U.S. A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while he wrote many political carto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7" descr="http://www.childrensclassics.com.au/images/picture_dr_seuss.jpg"/>
          <p:cNvPicPr/>
          <p:nvPr/>
        </p:nvPicPr>
        <p:blipFill>
          <a:blip r:embed="rId1"/>
          <a:stretch/>
        </p:blipFill>
        <p:spPr>
          <a:xfrm>
            <a:off x="5896080" y="3505320"/>
            <a:ext cx="32479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oo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Seuss published 44 children books all filled with imaginative characters the books have rhyming wor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 seuss  wrote many  favorite books  such as : If I Ran the Zoo ,(1950) Horton hears a who ,(1954) Horton hatches the egg ,(1954) If I Ran the Circus ,(1956) The Cat in the Hat ,(1957) how the Grinch stole Christmas ,(1957) and  Green eggs and ham(1960), One fish two fish red fish blue fis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Seuss books were made into 11 television 3 movies and 1 Broadway musical and 4 T.V. serie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http://3.bp.blogspot.com/_LbEOZqOqjYs/SX9ezBBlX_I/AAAAAAAAFl4/W5WZLifFw9o/s400/drseuss_if+I+ran+the+zoo.jpg"/>
          <p:cNvPicPr/>
          <p:nvPr/>
        </p:nvPicPr>
        <p:blipFill>
          <a:blip r:embed="rId1"/>
          <a:stretch/>
        </p:blipFill>
        <p:spPr>
          <a:xfrm>
            <a:off x="3352680" y="374760"/>
            <a:ext cx="1371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ath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22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 Seuss died of throat cancer  September 24, 1991  he  had   years  of poor health he died in San Diego, California and his ashes were scattered and on December 1 1995 the library at UCSD was renamed Geisel Library he was 87 years old when he di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5" descr="http://aedesign.files.wordpress.com/2010/02/geisel_library_ucsd-use.jpg"/>
          <p:cNvPicPr/>
          <p:nvPr/>
        </p:nvPicPr>
        <p:blipFill>
          <a:blip r:embed="rId1"/>
          <a:stretch/>
        </p:blipFill>
        <p:spPr>
          <a:xfrm>
            <a:off x="228600" y="4513320"/>
            <a:ext cx="312408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4:25:52Z</dcterms:created>
  <dc:creator>Lakeview School District</dc:creator>
  <dc:description/>
  <dc:language>en-US</dc:language>
  <cp:lastModifiedBy>Lakeview School District</cp:lastModifiedBy>
  <dcterms:modified xsi:type="dcterms:W3CDTF">2011-05-03T13:24:46Z</dcterms:modified>
  <cp:revision>12</cp:revision>
  <dc:subject/>
  <dc:title>Dr. Suess’ Life </dc:title>
</cp:coreProperties>
</file>